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96A-3FF5-4F1B-B09A-F5922AB0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AF4-386F-4545-AA04-A5771634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EF1-6E70-4FAF-9A89-B5779770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011-7DC0-416E-A1E7-9A3249BE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914-D626-4104-A188-1DD92E3D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23C-665C-4C5D-A320-7E4F8C99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799-2CC5-41F1-BBA8-8B26D059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C8B-5C03-4227-AE8B-3C4DEB02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A9C-7A22-414A-9B52-0E55DCF0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4A1-869E-4DA4-A20B-A3A7245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AF9-4E76-4204-BBF1-36B42DD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14D-F4A8-440E-9507-E3B8280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CD02-4328-4AAC-A748-CD4C483DF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6946" t="6081" r="5512" b="0"/>
          <a:stretch/>
        </p:blipFill>
        <p:spPr>
          <a:xfrm>
            <a:off x="4932360" y="1844640"/>
            <a:ext cx="3697200" cy="2752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0" y="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Всероссийская конференци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nb-NO" sz="1100" spc="-1" strike="noStrike">
                <a:solidFill>
                  <a:srgbClr val="000000"/>
                </a:solidFill>
                <a:latin typeface="Calibri"/>
                <a:ea typeface="Calibri"/>
              </a:rPr>
              <a:t>III Российский день редк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х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емель”,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0-2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февраля 201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, Новосибирск, 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979640" y="328680"/>
            <a:ext cx="484812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ТАЛИТИЧЕСКИ АКТИВНАЯ ПОВЕРХНОСТЬ КРИСТАЛЛОВ (NH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Ce(NO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ГЕНЕРАТОР ЭЛЕКТРОННО-ВОЗБУЖДЕННЫХ СОСТОЯНИЙ ИОНОВ ЦЕРИЯ И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 Галим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Д.Р. Газеева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Р.Г. Булгак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libri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) ФГБУН Институт нефтехимии и катализа Российской Академии Наук, г. Уф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) ФГБУН Институт физики молекул и кристаллов УНЦ РАН, г. Уф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71280" y="6500880"/>
            <a:ext cx="150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-mail: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alimovdi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_AAA_КОНФЕРЕНЦИИ\РДРЗ\РДРЗ-2017\эмблема3.png"/>
          <p:cNvPicPr/>
          <p:nvPr/>
        </p:nvPicPr>
        <p:blipFill>
          <a:blip r:embed="rId2"/>
          <a:stretch/>
        </p:blipFill>
        <p:spPr>
          <a:xfrm>
            <a:off x="11160" y="73080"/>
            <a:ext cx="1247760" cy="1276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9"/>
          <p:cNvSpPr/>
          <p:nvPr/>
        </p:nvSpPr>
        <p:spPr>
          <a:xfrm>
            <a:off x="5867280" y="162864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ектр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хемилюминесц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6"/>
          <p:cNvSpPr/>
          <p:nvPr/>
        </p:nvSpPr>
        <p:spPr>
          <a:xfrm>
            <a:off x="250920" y="3573360"/>
            <a:ext cx="4176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Предполагаемая схема генерации эмиттеров в хемилюминесцентной системе «(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Arial"/>
              </a:rPr>
              <a:t>NH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4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)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Arial"/>
              </a:rPr>
              <a:t>Ce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(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Arial"/>
              </a:rPr>
              <a:t>NO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)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6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-H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O-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Arial"/>
              </a:rPr>
              <a:t>C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6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Arial"/>
              </a:rPr>
              <a:t>H</a:t>
            </a:r>
            <a:r>
              <a:rPr b="1" lang="ru-RU" sz="1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6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Object 15"/>
          <p:cNvGraphicFramePr/>
          <p:nvPr/>
        </p:nvGraphicFramePr>
        <p:xfrm>
          <a:off x="826920" y="4076640"/>
          <a:ext cx="3097440" cy="22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076640"/>
                    <a:ext cx="309744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4" descr="63 -2"/>
          <p:cNvPicPr/>
          <p:nvPr/>
        </p:nvPicPr>
        <p:blipFill>
          <a:blip r:embed="rId5"/>
          <a:srcRect l="18454" t="13446" r="5510" b="2302"/>
          <a:stretch/>
        </p:blipFill>
        <p:spPr>
          <a:xfrm>
            <a:off x="7380360" y="333360"/>
            <a:ext cx="1493640" cy="10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Прямоугольник 1"/>
          <p:cNvSpPr/>
          <p:nvPr/>
        </p:nvSpPr>
        <p:spPr>
          <a:xfrm>
            <a:off x="250920" y="1628640"/>
            <a:ext cx="43210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наружена необычная хемилюминесценция (ХЛ), которая возникает в гетерогенной системе «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качестве эмиттеров ХЛ идентифицированы электронно-возбужденные состояния ион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ХЛ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= 335 нм), синглетного кислорода 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излучение при 1270 нм) и его димера (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</a:rPr>
              <a:t>ХЛ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= 490, 645, 715 нм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оны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e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+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* и молекулы кислородных эмиттеров 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 (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генерируются в реакции ионов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e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+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с водой и пероксидом вод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500720" y="4581360"/>
            <a:ext cx="4464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Максимальные значения интенсивности и светосуммы ХЛ наблюдаются при 100-кратном избытке воды по отношению к иону цер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ХЛ возбуждается только в гетерогенной системе и полностью отсутствует в гомогенном растворе 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H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e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в вод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Благодаря активной поверхности  кристаллов 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H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e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6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ется заселение такого высокого по энергии уровня иона Ce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+*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, как 5d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-возбужденное состояние (λ</a:t>
            </a:r>
            <a:r>
              <a:rPr b="1" lang="ru-RU" sz="11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ФЛ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= 356 нм, 3.5 eV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Обнаруженная ХЛ – первый пример экспериментальной регистрации возбужденного ион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e</a:t>
            </a:r>
            <a:r>
              <a:rPr b="1" lang="ru-RU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+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* в химической реакци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ченко Сергей Николаевич</dc:creator>
  <dc:description/>
  <dc:language>en-US</dc:language>
  <cp:lastModifiedBy>Home</cp:lastModifiedBy>
  <cp:lastPrinted>2017-02-03T11:54:12Z</cp:lastPrinted>
  <dcterms:modified xsi:type="dcterms:W3CDTF">2017-02-03T11:58:51Z</dcterms:modified>
  <cp:revision>28</cp:revision>
  <dc:subject/>
  <dc:title>Слайд 1</dc:title>
</cp:coreProperties>
</file>