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9C6-F35C-41CF-B409-811A123B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9AB-4F6B-42D0-A616-EAE640E2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323-CA16-40F3-92A7-47A9658E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683-C07C-41FF-A082-3B64F699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69E-C05C-41D7-B564-DCDC36F7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05C-C394-412A-A8A6-9443BA8A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C64-B21A-4F2F-818E-DBDA6DA8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8EA-108A-494E-8F4C-6AEC2049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BAD-26F8-4C2B-BCA8-31E74F67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BAA7-9FC6-4FC3-A6A3-9C5228DA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CEC-10ED-4FE7-B11F-FCCA6C39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7ABE-BA95-4EFA-905D-6D86972F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41E5-4453-458A-A639-D91AC55E3A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0" y="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100" spc="-1" strike="noStrike">
                <a:solidFill>
                  <a:srgbClr val="000000"/>
                </a:solidFill>
                <a:latin typeface="Calibri"/>
                <a:ea typeface="Calibri"/>
              </a:rPr>
              <a:t>Всероссийская конференция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1" lang="nb-NO" sz="1100" spc="-1" strike="noStrike">
                <a:solidFill>
                  <a:srgbClr val="000000"/>
                </a:solidFill>
                <a:latin typeface="Calibri"/>
                <a:ea typeface="Calibri"/>
              </a:rPr>
              <a:t>III Российский день редк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их</a:t>
            </a:r>
            <a:r>
              <a:rPr b="1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земель”,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20-21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февраля 201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7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, Новосибирск, Росс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19280" y="260280"/>
            <a:ext cx="518472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ЕРМОГРАВИМЕТРИЧЕСКОЕ  ИССЛЕДОВАНИЕ ПЕНТАФТОРФЕНОЛЯТНЫХ КОМПЛЕКСОВ ЛАНТАНОИД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.М. Лазарев</a:t>
            </a:r>
            <a:r>
              <a:rPr b="0" lang="ru-RU" sz="1000" spc="-1" strike="noStrike" baseline="30000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, Б.И. Петров</a:t>
            </a:r>
            <a:r>
              <a:rPr b="0" lang="ru-RU" sz="1000" spc="-1" strike="noStrike" baseline="30000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, А.А. Малеев</a:t>
            </a:r>
            <a:r>
              <a:rPr b="0" lang="ru-RU" sz="1000" spc="-1" strike="noStrike" baseline="30000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, А.А. Фагин</a:t>
            </a:r>
            <a:r>
              <a:rPr b="0" lang="ru-RU" sz="1000" spc="-1" strike="noStrike" baseline="30000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, В.В. Кузьмичёв</a:t>
            </a:r>
            <a:r>
              <a:rPr b="0" lang="ru-RU" sz="1000" spc="-1" strike="noStrike" baseline="30000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, А.В. Маркин</a:t>
            </a:r>
            <a:r>
              <a:rPr b="0" lang="ru-RU" sz="1000" spc="-1" strike="noStrike" baseline="30000">
                <a:solidFill>
                  <a:srgbClr val="000000"/>
                </a:solidFill>
                <a:latin typeface="Calibri"/>
              </a:rPr>
              <a:t>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) Институт металлоорганической химии им. Г.А. Разуваева РАН, Россия, 603137,       Нижний Новгород, ул. Тропинина, 4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Нижегородский государственный университет им. Н.И. Лобачевского, Россия, 603950, Нижний Новгород, просп. Гагарина, 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0"/>
          <p:cNvSpPr/>
          <p:nvPr/>
        </p:nvSpPr>
        <p:spPr>
          <a:xfrm>
            <a:off x="0" y="6237360"/>
            <a:ext cx="5580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504d"/>
                </a:solidFill>
                <a:latin typeface="Calibri"/>
              </a:rPr>
              <a:t>Благодарности:</a:t>
            </a:r>
            <a:r>
              <a:rPr b="0" lang="ru-RU" sz="10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ллективу лаборатории ПМОС (ИМХ РАН) и заведующему данной лабораторией д.х.н. М.Н. Бочкарёву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0504d"/>
                </a:solidFill>
                <a:latin typeface="Calibri"/>
              </a:rPr>
              <a:t>e-mail: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nikolai-lazarev@mail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D:\_AAA_КОНФЕРЕНЦИИ\РДРЗ\РДРЗ-2017\эмблема3.png"/>
          <p:cNvPicPr/>
          <p:nvPr/>
        </p:nvPicPr>
        <p:blipFill>
          <a:blip r:embed="rId1"/>
          <a:stretch/>
        </p:blipFill>
        <p:spPr>
          <a:xfrm>
            <a:off x="179280" y="260280"/>
            <a:ext cx="1247760" cy="1276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6" descr=""/>
          <p:cNvPicPr/>
          <p:nvPr/>
        </p:nvPicPr>
        <p:blipFill>
          <a:blip r:embed="rId2"/>
          <a:stretch/>
        </p:blipFill>
        <p:spPr>
          <a:xfrm>
            <a:off x="6811920" y="331920"/>
            <a:ext cx="2124000" cy="1081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0" y="1413000"/>
            <a:ext cx="91440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Целью настоящей работы являлось продолжение исследования  термических свойств пентафторфенолятных комплексов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n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C</a:t>
            </a:r>
            <a:r>
              <a:rPr b="0" lang="ru-RU" sz="9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9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9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hen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9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где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n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= 1 (</a:t>
            </a:r>
            <a:r>
              <a:rPr b="1" lang="ru-RU" sz="900" spc="-1" strike="noStrike">
                <a:solidFill>
                  <a:srgbClr val="c0504d"/>
                </a:solidFill>
                <a:latin typeface="Calibri"/>
              </a:rPr>
              <a:t>1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);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u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= 1 (</a:t>
            </a:r>
            <a:r>
              <a:rPr b="1" lang="ru-RU" sz="900" spc="-1" strike="noStrike">
                <a:solidFill>
                  <a:srgbClr val="c0504d"/>
                </a:solidFill>
                <a:latin typeface="Calibri"/>
              </a:rPr>
              <a:t>2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);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r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= 3 (</a:t>
            </a:r>
            <a:r>
              <a:rPr b="1" lang="ru-RU" sz="900" spc="-1" strike="noStrike">
                <a:solidFill>
                  <a:srgbClr val="c0504d"/>
                </a:solidFill>
                <a:latin typeface="Calibri"/>
              </a:rPr>
              <a:t>3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900" spc="-1" strike="noStrike">
                <a:solidFill>
                  <a:srgbClr val="c0504d"/>
                </a:solidFill>
                <a:latin typeface="Calibri"/>
              </a:rPr>
              <a:t>[1]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, а именно изучение термического поведения этих комплексов в конденсированном состоянии с помощью метода термогравиметрии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нные комплексы синтезировались реакцией силиламидов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n[N(SiM</a:t>
            </a:r>
            <a:r>
              <a:rPr b="0" lang="en-US" sz="9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9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c 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9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H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 эфире в присутствии 1,10-фенантролина. В отличие от не содержащих фенантролин аналогов, комплексы </a:t>
            </a:r>
            <a:r>
              <a:rPr b="1" lang="ru-RU" sz="900" spc="-1" strike="noStrike">
                <a:solidFill>
                  <a:srgbClr val="c0504d"/>
                </a:solidFill>
                <a:latin typeface="Calibri"/>
              </a:rPr>
              <a:t>1-3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устойчивы на воздухе и возгоняются в вакууме без разложения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900" spc="-1" strike="noStrike">
                <a:solidFill>
                  <a:srgbClr val="c0504d"/>
                </a:solidFill>
                <a:latin typeface="Calibri"/>
              </a:rPr>
              <a:t>[2-3]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2" descr="Празеодим"/>
          <p:cNvPicPr/>
          <p:nvPr/>
        </p:nvPicPr>
        <p:blipFill>
          <a:blip r:embed="rId3"/>
          <a:stretch/>
        </p:blipFill>
        <p:spPr>
          <a:xfrm>
            <a:off x="611280" y="2421000"/>
            <a:ext cx="3879720" cy="21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Европий"/>
          <p:cNvPicPr/>
          <p:nvPr/>
        </p:nvPicPr>
        <p:blipFill>
          <a:blip r:embed="rId4"/>
          <a:stretch/>
        </p:blipFill>
        <p:spPr>
          <a:xfrm>
            <a:off x="5332320" y="2276640"/>
            <a:ext cx="3811680" cy="230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Эрбий"/>
          <p:cNvPicPr/>
          <p:nvPr/>
        </p:nvPicPr>
        <p:blipFill>
          <a:blip r:embed="rId5"/>
          <a:stretch/>
        </p:blipFill>
        <p:spPr>
          <a:xfrm>
            <a:off x="5435640" y="4581360"/>
            <a:ext cx="3708360" cy="2184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"/>
          <p:cNvSpPr/>
          <p:nvPr/>
        </p:nvSpPr>
        <p:spPr>
          <a:xfrm>
            <a:off x="0" y="4508640"/>
            <a:ext cx="53481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анные соединения </a:t>
            </a:r>
            <a:r>
              <a:rPr b="1" lang="ru-RU" sz="1000" spc="-1" strike="noStrike">
                <a:solidFill>
                  <a:srgbClr val="c0504d"/>
                </a:solidFill>
                <a:latin typeface="Calibri"/>
              </a:rPr>
              <a:t>1-3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достаточно устойчивы в интервале температур 20-250 </a:t>
            </a:r>
            <a:r>
              <a:rPr b="0" lang="ru-RU" sz="10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 и могут применяться в качестве электролюминесцентных слоёв осаждением из газовой фазы для получения органических светоизлучающих диодов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504d"/>
                </a:solidFill>
                <a:latin typeface="Calibri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Б.И. Петров, Н.М. Лазарев, А.А. Малеев, А.А. Фагин, М.Н. Бочкарёв. Журнал Общей химии.2016.Т.86.№6.С.989-992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504d"/>
                </a:solidFill>
                <a:latin typeface="Calibri"/>
              </a:rPr>
              <a:t>[2]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А.А.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aleev, A.A. Fagin, V.A. Ilichev, M.A. Lopatin, A.N. Konev, M.A. Samsonov, G.K. Fukin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.N. Bochkarev. J. of Organometallic Chemistry.2013.V.747.P.126-132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504d"/>
                </a:solidFill>
                <a:latin typeface="Calibri"/>
              </a:rPr>
              <a:t>[3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A.P. Pushkarev, V.A. Ilichev, A.A. Maleev, A.A. Fagin, A.N.Konev, A.F. Shestakov, R.V. Rumyantzev, G.K. Fukin, M.N. Bochkarev. J.of Materials Chemistry.2014.V.2.P.1532-1538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нченко Сергей Николаевич</dc:creator>
  <dc:description/>
  <dc:language>en-US</dc:language>
  <cp:lastModifiedBy>Конченко Сергей Николаевич</cp:lastModifiedBy>
  <dcterms:modified xsi:type="dcterms:W3CDTF">2017-02-13T13:47:18Z</dcterms:modified>
  <cp:revision>15</cp:revision>
  <dc:subject/>
  <dc:title>Слайд 1</dc:title>
</cp:coreProperties>
</file>