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DFD-934E-412C-BBD3-F3F98C13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148-AACB-4FC0-BAB1-A46362F3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74D-9EBF-43E2-ACFB-EE66BEF9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77A-D512-4B21-B857-988BD097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151-A525-413A-9D74-78B2EB58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4BB-7B14-4F02-9FCD-FD57FA6F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92B-7D7E-4AAC-9EBE-C2A3C91E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23B-55F7-4643-AF47-9E766AA6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C53-15CA-4A79-84D9-A64596A2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F75-1A04-4B3A-AF33-D3850919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B65-C3F9-47B5-84D4-7E89FC4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167-290D-4C98-BF87-CD78BFD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44B-38D6-4E0D-AA73-40EEB13FF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2"/>
          <p:cNvGrpSpPr/>
          <p:nvPr/>
        </p:nvGrpSpPr>
        <p:grpSpPr>
          <a:xfrm>
            <a:off x="5148360" y="5361120"/>
            <a:ext cx="3887640" cy="1307880"/>
            <a:chOff x="5148360" y="5361120"/>
            <a:chExt cx="3887640" cy="1307880"/>
          </a:xfrm>
        </p:grpSpPr>
        <p:sp>
          <p:nvSpPr>
            <p:cNvPr id="42" name="Скругленный прямоугольник 31"/>
            <p:cNvSpPr/>
            <p:nvPr/>
          </p:nvSpPr>
          <p:spPr>
            <a:xfrm>
              <a:off x="5148360" y="5373720"/>
              <a:ext cx="3887640" cy="129528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38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12"/>
            <p:cNvSpPr/>
            <p:nvPr/>
          </p:nvSpPr>
          <p:spPr>
            <a:xfrm>
              <a:off x="5148360" y="5361120"/>
              <a:ext cx="38876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Обнаружено, что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mN 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ступает в реакции с соединениями, содержащими кислый водород (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pH, 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OH, 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OOH)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и даёт продукты с умеренными выходами. Но активность нитрида сильно зависит от кислотности органических субстратов, и с менее кислыми стиролом и фенилацетиленом он не реагирует, что ограничивает его использование в синтезе органосамариевых производных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Box 6"/>
          <p:cNvSpPr/>
          <p:nvPr/>
        </p:nvSpPr>
        <p:spPr>
          <a:xfrm>
            <a:off x="0" y="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100" spc="-1" strike="noStrike">
                <a:solidFill>
                  <a:srgbClr val="000000"/>
                </a:solidFill>
                <a:latin typeface="Calibri"/>
                <a:ea typeface="Calibri"/>
              </a:rPr>
              <a:t>Всероссийская конференци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nb-NO" sz="1100" spc="-1" strike="noStrike">
                <a:solidFill>
                  <a:srgbClr val="000000"/>
                </a:solidFill>
                <a:latin typeface="Calibri"/>
                <a:ea typeface="Calibri"/>
              </a:rPr>
              <a:t>III Российский день редк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их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земель”,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20-2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февраля 201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, Новосибирск, Росс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979640" y="328680"/>
            <a:ext cx="48481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НИТРИДА САМАРИЯ В СИНТЕЗЕ ОРГАНОСАМАРИЕВЫХ ПРОИЗВОД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М. Кузяе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Д.Л. Ворожцо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М.Н. Бочкарё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,б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) Институт металлоорганической химии им. Г.А.Разуваева Российской академии наук, 603950 Нижний Новгород, ул. Тропинина 49, факс: (831) 46274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Нижегородский государственный университет им. Н.И. Лобачевского, 603950 Нижний Новгород, пр. Гагарина, 23, тел.: (831)462-30-90, факс: (831) 462-30-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144360" y="6299280"/>
            <a:ext cx="8748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Благодарности: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бота выполнена при поддержке РНФ (проект № 14-13-01158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-mail: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kuzyaev@iomc.ras.ru, mboch@iomc.ras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D:\_AAA_КОНФЕРЕНЦИИ\РДРЗ\РДРЗ-2017\эмблема3.png"/>
          <p:cNvPicPr/>
          <p:nvPr/>
        </p:nvPicPr>
        <p:blipFill>
          <a:blip r:embed="rId2"/>
          <a:stretch/>
        </p:blipFill>
        <p:spPr>
          <a:xfrm>
            <a:off x="11160" y="73080"/>
            <a:ext cx="1247760" cy="127620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30"/>
          <p:cNvGrpSpPr/>
          <p:nvPr/>
        </p:nvGrpSpPr>
        <p:grpSpPr>
          <a:xfrm>
            <a:off x="5651640" y="3999960"/>
            <a:ext cx="2449440" cy="558360"/>
            <a:chOff x="5651640" y="3999960"/>
            <a:chExt cx="2449440" cy="558360"/>
          </a:xfrm>
        </p:grpSpPr>
        <p:graphicFrame>
          <p:nvGraphicFramePr>
            <p:cNvPr id="49" name="Object 26"/>
            <p:cNvGraphicFramePr/>
            <p:nvPr/>
          </p:nvGraphicFramePr>
          <p:xfrm>
            <a:off x="5651640" y="4005360"/>
            <a:ext cx="2449440" cy="54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1640" y="4005360"/>
                      <a:ext cx="244944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" name="Группа 16"/>
            <p:cNvGrpSpPr/>
            <p:nvPr/>
          </p:nvGrpSpPr>
          <p:grpSpPr>
            <a:xfrm>
              <a:off x="7380720" y="4331880"/>
              <a:ext cx="216000" cy="226440"/>
              <a:chOff x="7380720" y="4331880"/>
              <a:chExt cx="216000" cy="226440"/>
            </a:xfrm>
          </p:grpSpPr>
          <p:sp>
            <p:nvSpPr>
              <p:cNvPr id="52" name="Прямая соединительная линия 14"/>
              <p:cNvSpPr/>
              <p:nvPr/>
            </p:nvSpPr>
            <p:spPr>
              <a:xfrm>
                <a:off x="7380720" y="4337280"/>
                <a:ext cx="21600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Прямая соединительная линия 15"/>
              <p:cNvSpPr/>
              <p:nvPr/>
            </p:nvSpPr>
            <p:spPr>
              <a:xfrm flipH="1">
                <a:off x="7386480" y="4331880"/>
                <a:ext cx="204480" cy="22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Группа 17"/>
            <p:cNvGrpSpPr/>
            <p:nvPr/>
          </p:nvGrpSpPr>
          <p:grpSpPr>
            <a:xfrm>
              <a:off x="7380720" y="3999960"/>
              <a:ext cx="216000" cy="227880"/>
              <a:chOff x="7380720" y="3999960"/>
              <a:chExt cx="216000" cy="227880"/>
            </a:xfrm>
          </p:grpSpPr>
          <p:sp>
            <p:nvSpPr>
              <p:cNvPr id="55" name="Прямая соединительная линия 18"/>
              <p:cNvSpPr/>
              <p:nvPr/>
            </p:nvSpPr>
            <p:spPr>
              <a:xfrm>
                <a:off x="7380720" y="4005360"/>
                <a:ext cx="21600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ая соединительная линия 19"/>
              <p:cNvSpPr/>
              <p:nvPr/>
            </p:nvSpPr>
            <p:spPr>
              <a:xfrm flipH="1">
                <a:off x="7386480" y="3999960"/>
                <a:ext cx="20448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xtBox 3"/>
          <p:cNvSpPr/>
          <p:nvPr/>
        </p:nvSpPr>
        <p:spPr>
          <a:xfrm>
            <a:off x="3204360" y="2565360"/>
            <a:ext cx="27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учение нитрида сам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Объект 5"/>
          <p:cNvGraphicFramePr/>
          <p:nvPr/>
        </p:nvGraphicFramePr>
        <p:xfrm>
          <a:off x="1449360" y="2924280"/>
          <a:ext cx="312264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9360" y="2924280"/>
                    <a:ext cx="312264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"/>
          <p:cNvPicPr/>
          <p:nvPr/>
        </p:nvPicPr>
        <p:blipFill>
          <a:blip r:embed="rId7"/>
          <a:stretch/>
        </p:blipFill>
        <p:spPr>
          <a:xfrm>
            <a:off x="1449360" y="3300480"/>
            <a:ext cx="2786040" cy="257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5060880" y="2924280"/>
            <a:ext cx="3533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ёрный порошок, нерастворимый в органических растворителях, неустойчивый на воздух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2228400" y="3573360"/>
            <a:ext cx="45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акции нитрида самария с С-Н и О-Н кислотами</a:t>
            </a:r>
            <a:r>
              <a:rPr b="1" lang="ru-RU" sz="16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5148360" y="4797360"/>
            <a:ext cx="38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 Все реакции проводились в среде ТГФ при 60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°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 ультразвуковой б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6" descr=""/>
          <p:cNvPicPr/>
          <p:nvPr/>
        </p:nvPicPr>
        <p:blipFill>
          <a:blip r:embed="rId8"/>
          <a:stretch/>
        </p:blipFill>
        <p:spPr>
          <a:xfrm>
            <a:off x="406440" y="4005360"/>
            <a:ext cx="4302000" cy="2087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ая соединительная линия 27"/>
          <p:cNvSpPr/>
          <p:nvPr/>
        </p:nvSpPr>
        <p:spPr>
          <a:xfrm>
            <a:off x="5148360" y="4797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50920" y="1628640"/>
            <a:ext cx="8713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ими из наиболее распространённых стартовых реагентов для получения органических производных лантаноидов являются силиламидные и алкоксидные комплексы. Эти соединения удобны, однако достаточно дороги, поэтому проблема поиска новых прекурсоров остаётся актуальной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связи с этим представляло интерес провести исследование возможности применения для синтеза органолантаноидных комплексов более доступных нитридов лантаноидо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 настоящей работе в качестве модельных реагентов использовались нитрид самария SmN и органические соединения, содержащие подвижный водород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нченко Сергей Николаевич</dc:creator>
  <dc:description/>
  <dc:language>en-US</dc:language>
  <cp:lastModifiedBy>PMOC 312</cp:lastModifiedBy>
  <dcterms:modified xsi:type="dcterms:W3CDTF">2017-02-15T13:28:30Z</dcterms:modified>
  <cp:revision>52</cp:revision>
  <dc:subject/>
  <dc:title>Слайд 1</dc:title>
</cp:coreProperties>
</file>